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102-FEFA-441A-B767-9CC8EECC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BF0-3BDD-4ED8-862C-E52F58B4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93E-36D0-4EB6-B2B1-C777C843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11E-59BE-4DFE-A466-BA263B5C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DB2-0A83-4ECC-8EF3-D49D4265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1C1-C1D4-46DD-8BD9-11C1699B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190-5026-4C19-87A1-02EAC09B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BC4-B081-4D32-995D-A75A5493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076-90E9-4B93-BC5B-37F404FC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AFA-DD94-4E75-88A9-E96750D1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721-1EB8-47CA-908A-4EA43CDF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A86-E4E4-40B1-B519-D4A3F690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322B-5327-4D49-81D1-D47733BFA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" Target="slide19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23.xml"/><Relationship Id="rId4" Type="http://schemas.openxmlformats.org/officeDocument/2006/relationships/image" Target="../media/image10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8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" Target="slide33.xml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image" Target="../media/image13.jpeg"/><Relationship Id="rId7" Type="http://schemas.openxmlformats.org/officeDocument/2006/relationships/slide" Target="slide37.xm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25.jpeg"/><Relationship Id="rId9" Type="http://schemas.openxmlformats.org/officeDocument/2006/relationships/slide" Target="slide39.xml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image" Target="../media/image13.jpeg"/><Relationship Id="rId7" Type="http://schemas.openxmlformats.org/officeDocument/2006/relationships/image" Target="../media/image25.jpeg"/><Relationship Id="rId8" Type="http://schemas.openxmlformats.org/officeDocument/2006/relationships/slide" Target="slide40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image" Target="../media/image13.jpeg"/><Relationship Id="rId7" Type="http://schemas.openxmlformats.org/officeDocument/2006/relationships/image" Target="../media/image25.jpeg"/><Relationship Id="rId8" Type="http://schemas.openxmlformats.org/officeDocument/2006/relationships/slide" Target="slide41.xml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9.jpeg"/><Relationship Id="rId3" Type="http://schemas.openxmlformats.org/officeDocument/2006/relationships/slide" Target="slide42.xml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leitung für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T North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U. Backhau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Version: 18. Nov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"/>
              </a:rPr>
              <a:t>MONET-Beding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00280" y="2095560"/>
            <a:ext cx="75438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"/>
              </a:rPr>
              <a:t>MONET-Ruhrgebiet: Startse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445000"/>
            <a:ext cx="9144000" cy="144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ählen Sie die folgenden Menuepunkte 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en Sie sich das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atellitenbil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üfen Sie den Himmel mit dem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Wolkensenso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üfen Sie das Wetter beim nahe gelegenden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McDonal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Observato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üfen Sie die lokalen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MONE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Bedingun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nn die Wetterbedingungen ok sind, gehen Sie zum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Portal MONET North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60" y="2743200"/>
            <a:ext cx="90036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0" y="2924280"/>
            <a:ext cx="900000" cy="21564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106800"/>
            <a:ext cx="68436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7240" y="3112920"/>
            <a:ext cx="57168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2205000"/>
            <a:ext cx="1441440" cy="2872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"/>
              </a:rPr>
              <a:t>MONET-Por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5364" t="0" r="0" b="0"/>
          <a:stretch/>
        </p:blipFill>
        <p:spPr>
          <a:xfrm>
            <a:off x="-14400" y="-1146240"/>
            <a:ext cx="10319040" cy="9753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6280200"/>
            <a:ext cx="822960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dem Sie sich angemeldet haben, wählen Si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NET Nor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2200" y="1844640"/>
            <a:ext cx="1009800" cy="289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ntrollrau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4975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5787720"/>
            <a:ext cx="9144000" cy="80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Sie die wichtigsten Bedingungen bereits geprüft haben, nehmen Sie al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se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6560" y="3403440"/>
            <a:ext cx="865080" cy="3128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ntrollrau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4994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5734080"/>
            <a:ext cx="9144000" cy="820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 werden nun als Observer (hier: EssObserver) angezeigt, und Sie können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mor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formationen er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2624040"/>
            <a:ext cx="720720" cy="3002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959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5705640"/>
            <a:ext cx="9144000" cy="892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 haben nun Zugriff auf alle Bedienungselemente. Als Anfänger schalten Sie zunächst Red Ligh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30408" b="0"/>
          <a:stretch/>
        </p:blipFill>
        <p:spPr>
          <a:xfrm>
            <a:off x="1338120" y="3875040"/>
            <a:ext cx="5249880" cy="1004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197920" y="4005360"/>
            <a:ext cx="406440" cy="2872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5680" y="676440"/>
            <a:ext cx="9094680" cy="4954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20920" y="3719520"/>
            <a:ext cx="7543800" cy="1004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5776560"/>
            <a:ext cx="9144000" cy="531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nächstes öffnen Sie das Dach durch Drücken au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5760" y="4284720"/>
            <a:ext cx="515880" cy="2966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5680" y="676440"/>
            <a:ext cx="9094680" cy="4954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20920" y="3719520"/>
            <a:ext cx="7543800" cy="1004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5776560"/>
            <a:ext cx="9144000" cy="531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Öffnen des Daches können Sie im Notfall unterbrechen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6948360" y="4340160"/>
            <a:ext cx="503280" cy="22248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621480" y="3705120"/>
            <a:ext cx="2335320" cy="1005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85000" y="4284720"/>
            <a:ext cx="515880" cy="2966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5680" y="676440"/>
            <a:ext cx="9094680" cy="49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0920" y="3719520"/>
            <a:ext cx="7543800" cy="1004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5776920"/>
            <a:ext cx="9144000" cy="892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nächstes schalten Sie das Teleskop durch Drücken au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. Dadurch werden die Spiegelklappen entfernt, und Sie erhalten Zugang zur Teleskop-Steuer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879720" y="1652760"/>
            <a:ext cx="2737080" cy="2016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139240" y="2095560"/>
            <a:ext cx="503280" cy="2872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4760" y="67320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5589720"/>
            <a:ext cx="9144000" cy="122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Teleskop befindet sich noch in seiner Parkposition bei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Z=169.7945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on Norden gezählt) u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T=54.7165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2133720"/>
            <a:ext cx="1152360" cy="3585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20920" y="3719520"/>
            <a:ext cx="7543800" cy="1004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889440" y="168120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"/>
              </a:rPr>
              <a:t>MONET-Ruhrgebiet: Startse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36360" y="2743200"/>
            <a:ext cx="90036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2840" y="2924280"/>
            <a:ext cx="900000" cy="21564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0" y="3106800"/>
            <a:ext cx="68436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687240" y="3112920"/>
            <a:ext cx="57168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42840" y="2259000"/>
            <a:ext cx="1433520" cy="23328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760" y="67320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5589720"/>
            <a:ext cx="9144000" cy="122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Teleskop befindet sich noch in seiner Parkposition bei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Z=169.7945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on Norden gezählt) u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T=54.7165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in Status is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 h. es wird nicht der Himmelsdrehung nachgefüh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3500280"/>
            <a:ext cx="792000" cy="1843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20920" y="3719520"/>
            <a:ext cx="7543800" cy="1004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889440" y="168120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4760" y="67320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5589720"/>
            <a:ext cx="9144000" cy="122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Teleskop befindet sich noch in seiner Parkposition bei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Z=169.7945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on Norden gezählt) u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T=54.7165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in Status is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 h. es wird nicht der Himmelsdrehung nachgeführt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as bleibt so, solange Sie dem Teleskop neue Positionen in Form von Horizontkoordinaten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Z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L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mittei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77080" y="2209680"/>
            <a:ext cx="1582560" cy="4273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0920" y="3719520"/>
            <a:ext cx="7543800" cy="1004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889440" y="168120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4760" y="67320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5229000"/>
            <a:ext cx="9144000" cy="143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Sie dagegen dem Teleskop neue Positionen in Form von Äquatorialkoordinaten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R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De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teile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6681960" y="3213000"/>
            <a:ext cx="576000" cy="216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1773360"/>
            <a:ext cx="1582560" cy="4269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420920" y="3719520"/>
            <a:ext cx="7543800" cy="1004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3889440" y="168120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4760" y="67320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587808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wechselt der Teleskop-Status nach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AC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nd das Teleskop wird der Himmelsdrehung nachgefüh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19280" y="3500280"/>
            <a:ext cx="1152360" cy="216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420920" y="3719520"/>
            <a:ext cx="7543800" cy="1004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889440" y="168120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as Fotograf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587808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nkel- (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Dark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Bilder könnten Sie auch bei geschlossenem Dach mache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003640" y="3716280"/>
            <a:ext cx="1513080" cy="504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3870360" y="168120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587808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ns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i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ld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840120" y="3720960"/>
            <a:ext cx="2781360" cy="992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03640" y="3716280"/>
            <a:ext cx="1513080" cy="504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3870360" y="168120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587808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bevor Si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tografieren können, muss das Dach offen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830760" y="3716280"/>
            <a:ext cx="2795400" cy="1003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003640" y="3716280"/>
            <a:ext cx="1513080" cy="504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70600" y="4303800"/>
            <a:ext cx="56988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3870360" y="1681200"/>
            <a:ext cx="27367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599400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zt ist alles zum Fotografieren bere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3830760" y="3716280"/>
            <a:ext cx="2795400" cy="1003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870600" y="4303800"/>
            <a:ext cx="56988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3851280" y="1700280"/>
            <a:ext cx="27367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ählen Sie den geeigneten Filter (U = uv, B=blau, V=visuell (grün), R=rot, H_alpha=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Linie des Wasserstoffs, Sloan g und r: andere Farbfilt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schließend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GOT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nicht vergessen und warten, bis der gewählte Filter links angezeigt wi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830760" y="3716280"/>
            <a:ext cx="2795400" cy="1003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70600" y="4303800"/>
            <a:ext cx="56988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3851280" y="170028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rcRect l="0" t="17441" r="0" b="0"/>
          <a:stretch/>
        </p:blipFill>
        <p:spPr>
          <a:xfrm>
            <a:off x="6607080" y="2205000"/>
            <a:ext cx="2340000" cy="2773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flipV="1">
            <a:off x="6588000" y="3261600"/>
            <a:ext cx="668520" cy="2192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692360" y="2637000"/>
            <a:ext cx="668160" cy="2188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"/>
              </a:rPr>
              <a:t>MONET-Ruhrgebiet: Startse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5445000"/>
            <a:ext cx="9144000" cy="144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ählen Sie die folgenden Menuepunkte 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en Sie sich das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atellitenbil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0" y="3106800"/>
            <a:ext cx="68436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687240" y="3112920"/>
            <a:ext cx="57168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42840" y="2259000"/>
            <a:ext cx="1433520" cy="23328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2708280"/>
            <a:ext cx="785880" cy="2667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599400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Aufnahme wird mi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start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3830760" y="3716280"/>
            <a:ext cx="2795400" cy="1003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870600" y="4303800"/>
            <a:ext cx="56988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3851280" y="170028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>
            <a:off x="5796000" y="4149000"/>
            <a:ext cx="668160" cy="2192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599400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Aufnahme wird mi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startet. So lange belichtet wird, wird das in der Informationszeile angeze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3830760" y="3716280"/>
            <a:ext cx="2795400" cy="1003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870600" y="4303800"/>
            <a:ext cx="56988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3851280" y="170028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1187280" y="5229360"/>
            <a:ext cx="2376720" cy="2188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599400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chließend kann man mit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List al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das Verzeichnis der Bilder wechseln, um die Bilder herunterzula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3830760" y="3716280"/>
            <a:ext cx="2795400" cy="1003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870600" y="4303800"/>
            <a:ext cx="56988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3851280" y="170028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rId8" action="ppaction://hlinksldjump"/>
          </p:cNvPr>
          <p:cNvSpPr/>
          <p:nvPr/>
        </p:nvSpPr>
        <p:spPr>
          <a:xfrm flipV="1">
            <a:off x="6156360" y="4365720"/>
            <a:ext cx="450720" cy="2188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0" t="0" r="25007" b="29550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0" t="0" r="25007" b="29550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4643280" y="3213000"/>
          <a:ext cx="257400" cy="24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3213000"/>
                    <a:ext cx="25740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643280" y="3645000"/>
          <a:ext cx="285840" cy="26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3645000"/>
                    <a:ext cx="2858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643280" y="4149720"/>
          <a:ext cx="257400" cy="25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3280" y="4149720"/>
                    <a:ext cx="257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5003640" y="314172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pg-B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68360" y="3629160"/>
            <a:ext cx="293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informationen (fits-Hea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5080" y="407664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rimiertes fits-B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Verzeichnis enthält die abgespeicherten Bilder in drei (z. B. an den Symbolen erkennbaren) Versionen. Im Allgemeinen werden Sie das Bild im fits-Format herunterladen, das von ImageJ direkt eingelesen werden kan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r Abschl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599400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dem Sie alle Ihre Fotos aufgenommen habe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 Sie zunächst das Teleskop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3830760" y="3716280"/>
            <a:ext cx="2795400" cy="1003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rId7" action="ppaction://hlinksldjump"/>
          </p:cNvPr>
          <p:cNvSpPr/>
          <p:nvPr/>
        </p:nvSpPr>
        <p:spPr>
          <a:xfrm>
            <a:off x="7818480" y="3213000"/>
            <a:ext cx="56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3851280" y="170028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885080" y="3219480"/>
            <a:ext cx="503280" cy="2808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599400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das Teleskop beendet das Nachführen: Statu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3830760" y="3716280"/>
            <a:ext cx="2795400" cy="1003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7"/>
          <a:stretch/>
        </p:blipFill>
        <p:spPr>
          <a:xfrm>
            <a:off x="3851280" y="170028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8"/>
          <a:stretch/>
        </p:blipFill>
        <p:spPr>
          <a:xfrm>
            <a:off x="1465200" y="1595520"/>
            <a:ext cx="2349720" cy="2109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619280" y="3429000"/>
            <a:ext cx="785880" cy="2667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9" action="ppaction://hlinksldjump"/>
          </p:cNvPr>
          <p:cNvSpPr/>
          <p:nvPr/>
        </p:nvSpPr>
        <p:spPr>
          <a:xfrm>
            <a:off x="6810480" y="4314960"/>
            <a:ext cx="641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599400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das Teleskop beendet das Nachführen: Statu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nschließend schließen Sie das Dach mi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3830760" y="3716280"/>
            <a:ext cx="2795400" cy="10033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3851280" y="170028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1465200" y="1595520"/>
            <a:ext cx="2349720" cy="21096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740640" y="4299120"/>
            <a:ext cx="785520" cy="2664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599400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s Telesk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30760" y="3716280"/>
            <a:ext cx="2795400" cy="10033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7"/>
          <a:stretch/>
        </p:blipFill>
        <p:spPr>
          <a:xfrm>
            <a:off x="1465200" y="1595520"/>
            <a:ext cx="2349720" cy="210960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rId8" action="ppaction://hlinksldjump"/>
          </p:cNvPr>
          <p:cNvSpPr/>
          <p:nvPr/>
        </p:nvSpPr>
        <p:spPr>
          <a:xfrm>
            <a:off x="8394840" y="3213000"/>
            <a:ext cx="498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83560" y="4314960"/>
            <a:ext cx="641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8360" y="3233880"/>
            <a:ext cx="488880" cy="2538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atellitenf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00280" y="1838160"/>
            <a:ext cx="3943440" cy="3181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1280" y="4292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00" y="692280"/>
            <a:ext cx="9075600" cy="49878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599400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Letztes schalten Sie das Red Ligh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enn Sie das nicht bereits vor dem Fotografieren getan haben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6632640" y="1595520"/>
            <a:ext cx="2332080" cy="21096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498680" y="1601640"/>
            <a:ext cx="2360520" cy="21034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7543800" cy="10051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3830760" y="3716280"/>
            <a:ext cx="2795400" cy="10033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6632640" y="3716280"/>
            <a:ext cx="2328840" cy="9939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1465200" y="1595520"/>
            <a:ext cx="2349720" cy="210960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rId8" action="ppaction://hlinksldjump"/>
          </p:cNvPr>
          <p:cNvSpPr/>
          <p:nvPr/>
        </p:nvSpPr>
        <p:spPr>
          <a:xfrm>
            <a:off x="8290080" y="3933720"/>
            <a:ext cx="458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9"/>
          <a:stretch/>
        </p:blipFill>
        <p:spPr>
          <a:xfrm>
            <a:off x="6621480" y="1617840"/>
            <a:ext cx="2349360" cy="21096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8317080" y="3876840"/>
            <a:ext cx="431640" cy="2728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leskop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5994000"/>
            <a:ext cx="914400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loggen sich a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8290080" y="3933720"/>
            <a:ext cx="458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8000" y="692280"/>
            <a:ext cx="9144000" cy="495936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rId3" action="ppaction://hlinksldjump"/>
          </p:cNvPr>
          <p:cNvSpPr/>
          <p:nvPr/>
        </p:nvSpPr>
        <p:spPr>
          <a:xfrm>
            <a:off x="157320" y="4581360"/>
            <a:ext cx="458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8920" y="4533840"/>
            <a:ext cx="641160" cy="2667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15364" t="0" r="0" b="0"/>
          <a:stretch/>
        </p:blipFill>
        <p:spPr>
          <a:xfrm>
            <a:off x="-14400" y="-1146240"/>
            <a:ext cx="1031904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IMA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"/>
              </a:rPr>
              <a:t>MONET-Ruhrgebiet: Startse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5445000"/>
            <a:ext cx="9144000" cy="144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ählen Sie die folgenden Menuepunkte 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en Sie sich das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atellitenbil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üfen Sie den Himmel mit dem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Wolkensenso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42840" y="2924280"/>
            <a:ext cx="900000" cy="21564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687240" y="3112920"/>
            <a:ext cx="57168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4" action="ppaction://hlinksldjump"/>
          </p:cNvPr>
          <p:cNvSpPr/>
          <p:nvPr/>
        </p:nvSpPr>
        <p:spPr>
          <a:xfrm>
            <a:off x="42840" y="2259000"/>
            <a:ext cx="1433520" cy="23328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520" y="2878200"/>
            <a:ext cx="924120" cy="26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r Wolken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240" y="1492200"/>
            <a:ext cx="911376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"/>
              </a:rPr>
              <a:t>MONET-Ruhrgebiet: Startse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5445000"/>
            <a:ext cx="9144000" cy="144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ählen Sie die folgenden Menuepunkte 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en Sie sich das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atellitenbil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üfen Sie den Himmel mit dem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Wolkensenso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üfen Sie das Wetter beim nahe gelegenden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McDonal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Observato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36360" y="2743200"/>
            <a:ext cx="90036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0" y="3106800"/>
            <a:ext cx="68436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4" action="ppaction://hlinksldjump"/>
          </p:cNvPr>
          <p:cNvSpPr/>
          <p:nvPr/>
        </p:nvSpPr>
        <p:spPr>
          <a:xfrm>
            <a:off x="42840" y="2259000"/>
            <a:ext cx="1433520" cy="23328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520" y="3063960"/>
            <a:ext cx="708120" cy="2937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"/>
              </a:rPr>
              <a:t>Mt-Locke-W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64864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"/>
              </a:rPr>
              <a:t>MONET-Ruhrgebiet: Startse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445000"/>
            <a:ext cx="9144000" cy="144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ählen Sie die folgenden Menuepunkte 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en Sie sich das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atellitenbil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üfen Sie den Himmel mit dem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Wolkensenso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üfen Sie das Wetter beim nahe gelegenden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McDonal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Observato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üfen Sie die lokalen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MONE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Bedingun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36360" y="2743200"/>
            <a:ext cx="90036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42840" y="2924280"/>
            <a:ext cx="900000" cy="21564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06800"/>
            <a:ext cx="684360" cy="21600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0" y="2259000"/>
            <a:ext cx="1433520" cy="233280"/>
          </a:xfrm>
          <a:prstGeom prst="rect">
            <a:avLst/>
          </a:prstGeom>
          <a:solidFill>
            <a:srgbClr val="ffff99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3063960"/>
            <a:ext cx="574560" cy="2937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43:26Z</dcterms:created>
  <dc:creator>udo backhaus</dc:creator>
  <dc:description/>
  <dc:language>en-US</dc:language>
  <cp:lastModifiedBy>Udo Backhaus</cp:lastModifiedBy>
  <dcterms:modified xsi:type="dcterms:W3CDTF">2009-01-19T07:52:44Z</dcterms:modified>
  <cp:revision>21</cp:revision>
  <dc:subject/>
  <dc:title>Folie 1</dc:title>
</cp:coreProperties>
</file>